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2E5-F5DA-4B6B-9965-C75723EB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EBD-12CD-46DF-A07B-46011CC4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1BD-411A-4978-9E8F-DC0CCCFB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F6E-F5B8-4F97-B4E8-34804DE5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C73-D0D3-4793-BCEF-4213F97C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309-87A7-4D73-8518-CB13AFEA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E7B5-2E4A-4B59-88AB-64FC13AC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B36-135B-46A5-BBB7-D4AB18F2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52D-E32A-4781-BAEC-EC5E60D9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FB0-E672-4926-A09E-DED155E3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682-BAAB-4802-A8E4-382AD698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D96-07DC-4D26-94AB-7934FC7E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BBDB-972B-4E85-8B17-C7BA1F39DD90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22360" y="5105520"/>
            <a:ext cx="191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CMAI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ptemb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1752480"/>
            <a:ext cx="6840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RUCTURE AND INTERPRETATION OF MUSIC CONCEPTS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MUSIC FROM A COMPUTATIONAL VIEW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1700280"/>
            <a:ext cx="6840360" cy="3733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6440" y="422100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a Balaban, Ben-Gurion University, Isra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4876920"/>
            <a:ext cx="2438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int work with Dahlia Cohen, Hebrew University, ISRA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xample for operations analysis by Dahlia Co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E205-5A14-4DBA-B342-3BF4B5BD1616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1371600"/>
          <a:ext cx="82296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ck of core theory for Computer-Mus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81CE-38EA-48FA-A03E-BFDD4A164982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120" y="1523880"/>
            <a:ext cx="67644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it pos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look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ta-framewor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models, representation formalisms) for describing music compon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ediate ste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bed (implement) in a powerful, minimal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ing language – e.g.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hat  is a Knowledge Representation Formalism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07C0-8E4F-4F1A-AB06-9EF8CFEB8D19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7120" y="1523880"/>
            <a:ext cx="6764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presentation formalism is a language for describing languages – a meta-langu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lement of a representation formalism (e.g., a specific grammar) describ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nte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(strings, formulae) – the langu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ion of “sentences” with the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ructural proper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 Synt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ion of “sentences”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formation El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Semantics (models of the languag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304920"/>
            <a:ext cx="914400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hat  services are provided by a Knowledge Representation Formalism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9D77-57CF-44CA-8792-6D376575FA8B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7120" y="1523880"/>
            <a:ext cx="6764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presentation formalism provides algorithms (interpreters) for computing the syntactic and semantic associ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presentation formalism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anguage specific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s for computing language e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304920"/>
            <a:ext cx="914400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an a programming language serve as a Knowledge Representation Formalism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B90B-FC0D-4266-942F-B53F51E964E0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7120" y="1523880"/>
            <a:ext cx="6764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simply implement algorithms for performing music tasks in a programming language. B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cification part is missin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3213000"/>
            <a:ext cx="6764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 example from Peter Norvig’s “AI Programming”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 simple grammer for a tiny portion of Englis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ence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oun-Phrase + Verb-Phr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-Phra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rticle + N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-Phrase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Verb + Noun-Phr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icle 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he, a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  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man, ball, woman, table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   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hit, took, saw, liked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04920"/>
            <a:ext cx="914400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an a programming language serve as a Knowledge Representation Formalism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B806-D328-4BE6-9EEC-2F76693B7344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7120" y="1523880"/>
            <a:ext cx="6764400" cy="25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ntence generation -- a straightforward solution (LISP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un sentence ()    (append (noun-phrase) (verb-phrase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un noun-phrase () (append (Article) (Noun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un verb-phrase () (append (Verb) (noun-phrase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un Article ()     (one-of '(the a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un Noun ()        (one-of '(man ball woman table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un Verb ()        (one-of '(hit took saw liked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330800"/>
            <a:ext cx="6764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:  (the ball saw the m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: The associations found in the grammatical meta-language dis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04920"/>
            <a:ext cx="914400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an a programming language serve as a Knowledge Representation Formalism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8961-7E5B-48B5-AC7B-8993B5B49C09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1484280"/>
            <a:ext cx="6840720" cy="48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 alternative solution – implement the meta-language fir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efun rule-lhs (rule) (first rul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efun rule-rhs (rule) (rest (rest rule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efun rewrites (category) (rule-rhs (assoc category *grammar*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efun generate (phr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nd ((listp phrase) (mappend #'generate phras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(rewrites phrase) (generate (random-elt (rewrites phrase)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 (list phrase)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parameter *simple-grammar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((sentenc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oun-phrase verb-phras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un-phra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rticle Noun))  …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var *grammar* *simple-grammar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304920"/>
            <a:ext cx="914400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an a programming language serve as a Knowledge Representation Formalism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F40B-E7F2-4F91-A018-CC92B5EAF920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1916280"/>
            <a:ext cx="676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dvantages of implementing the meta-language fir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ssociations found in the grammatical meta-language are described (rewrit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tasks (algorithms) can be impleme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n be applied to many gramm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ta-language can be studied, independentl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nguage  Processing ana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6E67-EB6A-4BC3-9047-45A50F89C2F5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1197000"/>
            <a:ext cx="853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guage processing technologies are spread within different fiel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ational linguistics, natural language process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ech recognition, computational psycho-lingu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285264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rafsky and Martin open their recent “Speech and Language Processing” book with analysis of the skills that the Hal 9000 computer in Stanly Kubrik’s film “2001: A Space Odyssey” needs, for the following dialo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e Bowman: Open the pod bay doors, H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: I’m sorry Dave, I’m afraid I can’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nguage skil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peech recognition and generation, phonetics and phonology, morphology, syntax, lexical semantics, compositional semantics, pragmatics, discourse conventions, information retrieval and extraction, and infer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usic  Processing ana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B6F9-4CA1-4D47-B6CC-6E5BC1A6D4B4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42920" y="1268280"/>
            <a:ext cx="7561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ic processing technologies are spread within different fiel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icology, computer music, 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ineering, psycho-acou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3213000"/>
            <a:ext cx="748836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ening to music (perception and reaction) and its memorization, requires similarly diverse skil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und recognition and generation, structure analysis, recognition of natural and learned music schemata, information retrieval and extraction, and infer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B845-9A67-44A3-A2F7-E3F4C3DF79EF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12536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 a computational basis to components of music – capture the components in a formal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060640"/>
            <a:ext cx="67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f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249228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tter t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44370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core course in theory of computer mu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course for music students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ve study of music conce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4076640"/>
            <a:ext cx="67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re modest go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Follow the Language Processing Ana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1E0B-736C-4F36-AC75-DC5B0B39B651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90792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aint-based grammar formalis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nification-based) evolved in the natural language processing field, as a result from the need for computational effectiveness and expressivity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provide (Stuart Shieber, 1992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916280"/>
            <a:ext cx="842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ular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 are associated with information elements (directed acyclic graph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00328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795640" y="3573360"/>
            <a:ext cx="7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076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e abhors vacuum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3573360"/>
            <a:ext cx="36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3718080"/>
            <a:ext cx="36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72360" y="3573360"/>
            <a:ext cx="36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211640" y="407664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84720" y="4076640"/>
            <a:ext cx="36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930920" y="414972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3640" y="4149720"/>
            <a:ext cx="36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32720" y="4076640"/>
            <a:ext cx="649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48360" y="4005360"/>
            <a:ext cx="36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95640" y="4437000"/>
            <a:ext cx="36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45080" y="4653000"/>
            <a:ext cx="36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08720" y="4510080"/>
            <a:ext cx="43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227640" y="4076640"/>
            <a:ext cx="433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9080" y="4149720"/>
            <a:ext cx="4316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4221000"/>
            <a:ext cx="43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24360" y="4221000"/>
            <a:ext cx="432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433480" y="472608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06920" y="4726080"/>
            <a:ext cx="36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5229360"/>
            <a:ext cx="576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72360" y="4726080"/>
            <a:ext cx="4316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27640" y="4797360"/>
            <a:ext cx="432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88000" y="5302080"/>
            <a:ext cx="792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37080" y="4292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419280" y="429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58053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elements are manipulated by unification op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dvantages of Constraint-based approa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A7A8-57CE-482A-BC6A-D2CB1E098EFE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4076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ular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sociated with procedural, computational interpretations via unification operations and identity rel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844640"/>
            <a:ext cx="8424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rase Struc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 Language (logic of inform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2933640"/>
            <a:ext cx="8424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(models for logi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492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80000" y="2492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197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 different view of Language and gramm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he Musicology – Computer-Music Ana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D938-8979-44FC-B964-CADE06AA309F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1557360"/>
            <a:ext cx="676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nguage formalisms evolved in NLP but the encoded knowledge is mostly lingu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computational formalisms to express musicological knowled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Formulating Music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CDCD-E28A-49B6-BDEC-13EE75ED15BB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1125360"/>
            <a:ext cx="6764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r p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components of music at different abstraction leve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computational representation for each component (modularity and partialit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in a minimal syntax powerful language (Schem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 between language sentences (strings) to their associated information e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all in a framework of a course – to encourage discussion and creativity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lanned cont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E2B4-8B75-4491-81FC-6FF211E01FC2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1700280"/>
            <a:ext cx="6764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itives of a music 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related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schem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schemata – western tonal mus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333360"/>
            <a:ext cx="9144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rimitives of mus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8AC2-DC32-4FA7-BEF3-681788FE13D3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99072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ree levels of character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9640" y="1557360"/>
            <a:ext cx="67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ysical (acoustic)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hysical measures for sou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2438280"/>
            <a:ext cx="76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sycho-acous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basic sound parameters, as they are grasped by human beings (affected by physiological constraint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itch, Duration, Loudness (dynamics), ti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4221000"/>
            <a:ext cx="676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gnitiv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lection of concrete elements on the psycho-acoustic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304920"/>
            <a:ext cx="914400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arameters on the Psycho-acoustic leve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43D3-2B52-493F-9813-0099043F1F23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0920" y="981000"/>
            <a:ext cx="828036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tch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precisely recogniz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organized on a sc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val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rived from P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two ev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ically -- More meaningful (basic) than P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ctave sche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similarity in pitch feeling of notes in an octave interv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tave periodical specification for pitch and interv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4941720"/>
            <a:ext cx="676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duration of a single ev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well defin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ction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ng - 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ccato - lega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304920"/>
            <a:ext cx="914400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arameters on the Psycho-acoustic leve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A952-809E-4FFF-9E98-CDAC779DE3CF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9640" y="1413000"/>
            <a:ext cx="7920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udness (dynamics)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st restricted in terms of organ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ecise quantitative sc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ly loudness regions and directions of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contribution: Emphasize events in the other parame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3284640"/>
            <a:ext cx="7272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br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oustically, most compl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only by multiple measures, with no simple sc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nly parameter perceived without c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ed organization possibil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gative” psycho-acoustic character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ameter that distinguishes between events that are otherwise identi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rimitives of music -- computational view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DB00-D1C0-4593-B206-44CAE0E7A921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9640" y="162864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ect a music level of primitive abstr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-acoustic, cogn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321300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selection (cognitive) that can be realized into the physical level by an existing t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4581360"/>
            <a:ext cx="7561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extended a standard Scheme application with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to Windows midi fac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ad the MIDI extens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304920"/>
            <a:ext cx="914400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rimitives of music -- computational specific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14D1-AE75-4C56-AE99-E89B2E1B89C8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4149720"/>
            <a:ext cx="799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bstract data typ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ke-pitch, pitch-value, add, subtract, print-pitch, pitch-&gt;not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itch-&gt;proc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alization – the information element to “str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on: What are the “strings” here – symbolic, visual, acoustic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1125360"/>
            <a:ext cx="84963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guistic analogy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primitives function like lexicon ele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guage specif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specify them 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stract Data Ty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provide a Scheme implementation using the MIDI exten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 of the abstract data types ar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formation el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sociated with primitive val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mputer Music – Obser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29C3-4F37-4759-A333-8C4DDA84F79E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7120" y="1523880"/>
            <a:ext cx="67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r-music – over 40 years 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276640"/>
            <a:ext cx="770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velous achievements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ion, analysis, learning, music tools, notation, multi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 applications, teac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371628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re a core theo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pecific – maybe for sound stud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theory for foundations of computer-music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s – usually teach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33336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itch and Interval with the octave schema -- computational specific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E67F-D73D-4FE5-A16E-FA3E2116136D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1916280"/>
            <a:ext cx="7162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two components: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cta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itch-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two compon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cta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erval-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specified as information elements associated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 3 more categorie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ctave, Pitch-class, Interval-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mponents that derive from TIM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9CFF-A932-4C4F-9BE5-BDBD09A8553D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360" y="134136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modes of refer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4797360"/>
            <a:ext cx="67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 dim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213372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single ev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2852640"/>
            <a:ext cx="67644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 inter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the onsets of two distinct ev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2 distinct “successive” ev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sycho-acoustic parameter from wh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hythm, beat, tempo, 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ime Interval – Computational Spec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DEDB-D63D-4AE4-BD31-9533AFB73316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134136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more time primi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71640" y="206064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 point, time interval, du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42920" y="270828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re generalized by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tract data type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9640" y="386064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realization: using MIDI machine c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a “now” 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501336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tract time interval or du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 relative to a metronome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tract time point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he Time Dimension –  Computational Spec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2724-01F8-47AC-8D39-284A64E3098C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2438280"/>
            <a:ext cx="716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guage analog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(sentenc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element (like a graph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3860640"/>
            <a:ext cx="8064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mporal structu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ir realizatio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mporal proces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oral structu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he information element equival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“time stamped” combi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oral proces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he string equival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noted music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1143000"/>
            <a:ext cx="739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 of music components ALONG a time dim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bination Over 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multiple components into a single abstract uni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ntology of Temporal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6ABE-4710-47BD-A9FB-7CA84403E179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1430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oral pa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13080" y="1916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13080" y="2708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350028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68720" y="1844640"/>
            <a:ext cx="576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56000" y="17715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4360" y="2492280"/>
            <a:ext cx="57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5640" y="3355920"/>
            <a:ext cx="576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4360" y="1628640"/>
            <a:ext cx="1511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-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ti,t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1280" y="4581360"/>
            <a:ext cx="739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kin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oral structures, relative temporal structures, simultaneous temporal structures, sequential temporal stru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11280" y="17715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11280" y="2563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355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emporal structures and Temporal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9E27-CF37-4CF4-ABC6-186ABA861246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1143000"/>
            <a:ext cx="739152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oral structu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  Inductive 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i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s: Any element that has a duration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ctive step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-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ti, t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rther variety – temporal structures, relative-temporal-structur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taneous structures, sequential stru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08360" y="3354480"/>
            <a:ext cx="0" cy="165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36960" y="413388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50482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oral Proces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  scheduled plays of temporal structure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emporal structures and Temporal Processes computational Realization in Schem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FB2A-4DE4-4955-832E-F76348F47315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523880"/>
            <a:ext cx="739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oral structu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mplemented as Scheme Abstract Data ty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emporal structure ha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perty and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&gt;proc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eration. Demonst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3848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32767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480060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cons-process ps1 ti ps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ambda (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s1 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s2 (add tp ti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19520" y="23623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a tempor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4191120"/>
            <a:ext cx="373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e-IL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gt;process 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–  a scheduled play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hythm, Beat, T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E561-1083-426C-B87C-7EAD7FB7510A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2133720"/>
            <a:ext cx="73915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hyth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A flat sequential temporal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All time intervals in the rhythm are integer multiplications of a single time interval – the be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resting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raditional rhythm notation is deliberately restricted to not allow writing “forbidden” beat-less rhythm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mp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etronome definition for abstract-time temporal stru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7537-AB51-4841-BE5B-F909C4E22910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640" y="2133720"/>
            <a:ext cx="78487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traction from exampl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crete abstr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o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ystem, Orlarey et al. (GRAME, L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Structure concrete abstr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bstraction as a Means for End-User Programming in Cre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, Balaban, Barzilay, Elhadad, IEEE Trans. On SM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ppear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he BOOMS System – Abstraction with Temporal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Natural Schem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E6BC-6EF8-4750-9D71-B0CFDB92CD76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5280" y="2060640"/>
            <a:ext cx="739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icologists distinguish 3 aspects of natural schemata observ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ves of relative change in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5280" y="389556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ies of operations: Contrast, augmentation and reduction, shift, splitting and composition, equival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4000" y="98100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 schemata are culture independ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importance: in Atonal mus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5280" y="32464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olute parameter ranges for the schem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5280" y="5084640"/>
            <a:ext cx="7391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capture natural schema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ategories of operations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ypes of fun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ck of core theory for Computer-Mus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AC89-A0BB-4BEC-B9E5-D304E3D5C7C9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270828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it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47640" y="36450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it pos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arned Sche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56DD-11DD-40BB-B441-214CACD17C7A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1197000"/>
            <a:ext cx="814716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plan to concentrate on the western tonal system, but will refer also to other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iatonic system – Notes and interv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gnitive selection – description, characterization and justif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 system: A 7-12 arithmetic, that define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u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Supports further operations and re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alaban 83). Also – Brinkm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ale, Chord schem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binations along the time dim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rd progressions, Schemata of harmonic sent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ul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71680" y="6553080"/>
            <a:ext cx="90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ember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9AA1-E9A4-4278-BFA0-EEC2DEE0C6E8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64771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08000" y="1752480"/>
            <a:ext cx="74232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it pos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it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usic Characterization – following Dahlia Cohen’s writ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4F46-A080-4A2C-963F-C66546EA0689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523880"/>
            <a:ext cx="828648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ic is a systematic organization of elements that have acoustic realization, in order to trigger exci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haracterizes every a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ors and shapes  in Paint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movements in Danc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ds in litera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ic is un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istic excitements results, solely, from the artistic organ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zation and understanding of music requ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stigation of its primitives and organization stru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ck of core theory for Computer-Mus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A3D1-BB2B-4DE4-8BB4-521C21FAD1A7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7120" y="152388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it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2276640"/>
            <a:ext cx="67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usic theorists: For understanding. Explana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924280"/>
            <a:ext cx="799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mputer-music applic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 computer-interpretable characterization of mu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enom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sability. Integration of applic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with applications in other paradigms – multi-media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ing use of known music the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ed wherever music knowledge is being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ck of core theory for Computer-Mus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E2F2-385D-4CA3-9F43-1FF3DC1C0A46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371600"/>
            <a:ext cx="6764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most music research is analytic, explana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alysis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 cannot be reversed i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429000"/>
            <a:ext cx="676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music research is no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ruc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constructive studies of restricted doma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, Schenker, Winogra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1600200"/>
            <a:ext cx="746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rdahl and Jackendof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theory cannot provide a computable procedure for determ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ical analyses. However, achieving computability in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ingful way requires a much better understanding of 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 musical and psychological issues than exists at 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meantime we have attempted to make the theory as predi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possible by stating rules clearly and following through the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quences carefully, avoiding ad hoc adjustments that 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es work out the way we want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enerative theory of Tonal music. page 5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ck of core theory for Computer-Mus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60FA-190A-4031-9553-586D335AD483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tle A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19040" y="1905120"/>
            <a:ext cx="6353280" cy="4343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27640" y="1052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0120" y="655308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3580-68C4-4576-ADD4-A79F6B8D4E3E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4771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977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12:23:51Z</dcterms:created>
  <dc:creator>Steffen Jurk</dc:creator>
  <dc:description/>
  <dc:language>en-US</dc:language>
  <cp:lastModifiedBy>MIRA</cp:lastModifiedBy>
  <cp:lastPrinted>2001-11-30T04:51:13Z</cp:lastPrinted>
  <dcterms:modified xsi:type="dcterms:W3CDTF">2002-10-15T22:36:59Z</dcterms:modified>
  <cp:revision>1737</cp:revision>
  <dc:subject/>
  <dc:title>Optimizing the Order of Nested Transactions</dc:title>
</cp:coreProperties>
</file>